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57633"/>
        <c:axId val="23308884"/>
      </c:barChart>
      <c:catAx>
        <c:axId val="88557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08884"/>
        <c:crosses val="autoZero"/>
        <c:auto val="1"/>
        <c:lblAlgn val="ctr"/>
        <c:lblOffset val="100"/>
        <c:noMultiLvlLbl val="0"/>
      </c:catAx>
      <c:valAx>
        <c:axId val="23308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7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A76-EB57-4DDD-8A18-6448AFEF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289-BA01-4BD8-82F4-C4BBAB8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EEE-BA4B-490C-95BC-639AD28E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8FE-E7D6-4090-BBFD-27F3F2AB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553-7C8F-4BFF-8A46-98B5B621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038-C6F7-4FAF-B0F9-37DA5E7D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85E-AF8A-4665-A723-C6ABB7E0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6D2-A2D9-43F9-BE99-15018E67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5A3-E4F0-405E-AC1A-CB552949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56E-016D-4C25-8926-66A9586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C1D-7075-442D-B071-B7D7199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F9A-B7F9-4461-87AF-9E39C5D8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1B03C-4FC1-409C-A4A0-3D718A02D3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