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04713"/>
        <c:axId val="77198556"/>
      </c:barChart>
      <c:catAx>
        <c:axId val="73004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8556"/>
        <c:crosses val="autoZero"/>
        <c:auto val="1"/>
        <c:lblAlgn val="ctr"/>
        <c:lblOffset val="100"/>
        <c:noMultiLvlLbl val="0"/>
      </c:catAx>
      <c:valAx>
        <c:axId val="77198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4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692-F58F-4719-8FDC-A2369897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BCB-4551-4E82-B6A8-3460470B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F7F-2A5B-4D25-A02F-4C0003BE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05F-5B23-4499-B990-9466C13D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063-9ED1-4C30-BC80-861513C8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CDC-B63C-4B97-8C61-DD4D8103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DD9-5210-4A88-A4D1-83593EF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98F-EFAE-49DB-AA6E-50C9EEA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0CF-6129-42A5-A10F-089674A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0E4-25BA-46E3-8990-A431833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58B-57CB-45C6-BCFE-9D6447CB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6BF-D7C0-4CF8-A56C-4D89E15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9B97F-7583-4188-A13C-410F095267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