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71616"/>
        <c:axId val="56442231"/>
      </c:barChart>
      <c:catAx>
        <c:axId val="74871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42231"/>
        <c:crosses val="autoZero"/>
        <c:auto val="1"/>
        <c:lblAlgn val="ctr"/>
        <c:lblOffset val="100"/>
        <c:noMultiLvlLbl val="0"/>
      </c:catAx>
      <c:valAx>
        <c:axId val="56442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71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D04-3397-4A66-9EC8-13FB26A2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E13-9E24-4A6B-B8BA-CB9D05D1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C1B-25C3-4DF6-9873-908E9B65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155-8F51-43DF-9D72-0BECE6CC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2E3-9FDB-4F2F-9653-48E464AD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C54-A893-4508-8D95-7EB8AEDA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C13-5B12-4378-B294-549C3534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8B8-A986-4DD7-8627-967038BF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F63-FC7E-49B8-A14D-EAD0BA26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09F-3B6A-4987-8520-D65E35D1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B5A-6E52-46F4-B39C-80AE51D9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301-E8BC-4744-A1A4-6178F004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78F6E-BF24-40C6-BA2D-70947CF84A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