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47631"/>
        <c:axId val="93693012"/>
      </c:barChart>
      <c:catAx>
        <c:axId val="75247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93012"/>
        <c:crosses val="autoZero"/>
        <c:auto val="1"/>
        <c:lblAlgn val="ctr"/>
        <c:lblOffset val="100"/>
        <c:noMultiLvlLbl val="0"/>
      </c:catAx>
      <c:valAx>
        <c:axId val="93693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47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8FE-DB27-46D7-84A0-273044FA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A91-92A5-47F6-BD2D-6F4816C7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F6D-A7E8-42EE-B3F4-7ED70B42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F16-68C1-4664-B8A6-DF9DF69B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F19-B09E-4194-93DA-5A4F4AF2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D32-3CB7-4754-993A-795091AA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9C4-6E2B-4B96-8F58-13BCCA9E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D0E-D887-400A-8BF2-24D9CF95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BBE-DFBA-46E4-B7EB-09DE15AF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60A-9DDE-42CD-8B86-1F897B7B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BBA-60F8-4E31-8EE7-B2251F95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632-5948-40A5-8BF9-593EFBAB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20590-8108-497A-9239-84F5647BE3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