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80123"/>
        <c:axId val="53340023"/>
      </c:barChart>
      <c:catAx>
        <c:axId val="52480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40023"/>
        <c:crosses val="autoZero"/>
        <c:auto val="1"/>
        <c:lblAlgn val="ctr"/>
        <c:lblOffset val="100"/>
        <c:noMultiLvlLbl val="0"/>
      </c:catAx>
      <c:valAx>
        <c:axId val="53340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0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DA7-F972-4833-983E-88E4522C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35C-06E4-4380-8D4C-B1EDC3EC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7BB-A160-4801-A266-DE2629E4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216-673E-4CA2-B44A-437A76B2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8B3-8CCE-41F0-BC04-8D6133C3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9A2-2E4A-4F2A-AD28-6B948A92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F36-FFE3-496C-A253-45EEB24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1FB-75F9-491A-AB22-82DFC50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769-0EA5-4F1C-BAB7-B7A5BCD7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B4E-C978-4996-8A8A-84ED0AB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CE2-0615-4E7F-AD8D-FFFCB475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725-6CE8-4D19-92BE-37E8504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58311-0BC6-4074-B87A-EE346C7490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