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345747"/>
        <c:axId val="78631134"/>
      </c:barChart>
      <c:catAx>
        <c:axId val="353457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631134"/>
        <c:crosses val="autoZero"/>
        <c:auto val="1"/>
        <c:lblAlgn val="ctr"/>
        <c:lblOffset val="100"/>
        <c:noMultiLvlLbl val="0"/>
      </c:catAx>
      <c:valAx>
        <c:axId val="786311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457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D8B6-3E0D-4B9D-BCE7-BCBF09F5F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420F-8854-4C9F-85C5-2B6F2209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F40F-655E-4293-9E3F-0B66C4B72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7A45-A4A9-4305-B112-AA115970C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4150-3304-4D80-AAFA-E40CE469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929F-A633-47ED-85AE-FE859209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F1BA-C762-47C7-8C67-16880431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070E-86A4-40C1-AB7A-CA17257E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1228-ECDF-47F5-8075-5426295D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FFE2-B994-46EE-95FD-3D8F0906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4CAA-ED0A-484F-A4C6-ACC2F919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71A6-954F-483B-BB90-B55C07C3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B5B0F-0360-4301-A7FC-949DC69116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