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20491"/>
        <c:axId val="18841225"/>
      </c:barChart>
      <c:catAx>
        <c:axId val="278204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41225"/>
        <c:crosses val="autoZero"/>
        <c:auto val="1"/>
        <c:lblAlgn val="ctr"/>
        <c:lblOffset val="100"/>
        <c:noMultiLvlLbl val="0"/>
      </c:catAx>
      <c:valAx>
        <c:axId val="188412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204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A72-8ED9-411A-80AA-2A43AEA5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25C-7C3D-4162-881E-85899954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FE9C-85CF-4B98-B2C7-C6CADC99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317-31A2-4321-BD21-15B6BCEB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9E4E-9391-4C9F-9D45-CA767523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398-333D-4EC4-81F8-EE237FC7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743-01F9-4913-9C09-A237BD0F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EFD-0147-4795-B1AD-0C0D6F85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4CE-06D9-4F9B-8E95-63F8913F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F02-CF8E-4E22-9B04-DE2554BF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39E-4647-497D-97F3-20614648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49B4-7245-4722-ABFF-F567ED8D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4A63E-7271-4494-A678-59A38A0130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