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81342"/>
        <c:axId val="85255446"/>
      </c:barChart>
      <c:catAx>
        <c:axId val="81681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55446"/>
        <c:crosses val="autoZero"/>
        <c:auto val="1"/>
        <c:lblAlgn val="ctr"/>
        <c:lblOffset val="100"/>
        <c:noMultiLvlLbl val="0"/>
      </c:catAx>
      <c:valAx>
        <c:axId val="85255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81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593-0962-4E59-844D-B859C09D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CE4-5343-49D6-91A2-F63786CD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742-64FF-4FFC-A618-14994EB3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2FA-F0B0-4B1D-A4CA-E709B7F5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095-2F40-4F4D-B275-2D9CDD7F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182-0B31-4ABD-9FEC-D30D68FB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3AE0-A813-416D-8293-BF80AEB9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E3E-2F57-48CA-A41E-1FF71DF7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326-C02B-4855-8435-7FDF22DE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A3C0-CFD3-4AB2-9F83-16198345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71B1-399E-42E3-A5CA-2A3E1A9F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F84-F738-4528-98D8-63313D4C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DD740-C00D-4FA7-9070-5E942F6CFA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