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50881"/>
        <c:axId val="31057075"/>
      </c:barChart>
      <c:catAx>
        <c:axId val="47750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7075"/>
        <c:crosses val="autoZero"/>
        <c:auto val="1"/>
        <c:lblAlgn val="ctr"/>
        <c:lblOffset val="100"/>
        <c:noMultiLvlLbl val="0"/>
      </c:catAx>
      <c:valAx>
        <c:axId val="31057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50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62F-8E03-443C-A330-AE9D93B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3F1-B155-4982-B131-1E31E79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979-648E-42BF-A298-776D8191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840-F68F-4FBD-8CA1-E963CC3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363-D052-4224-8B8F-83AEFCD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4BD-837E-4E35-8DFB-5A72D61D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47A-112E-44DC-8A42-2BC68B59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5D7-DA63-47F5-9148-F62CB0B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DEE-F192-4612-9510-308202B3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B27-86EC-4FF6-A0D2-388FE862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13B-1A40-497F-B11E-8D6E77C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2C6-4F7C-46B2-8695-8320A53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1117-BA39-45CF-9E0F-E7D480675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