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51410"/>
        <c:axId val="64358739"/>
      </c:barChart>
      <c:catAx>
        <c:axId val="27351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58739"/>
        <c:crosses val="autoZero"/>
        <c:auto val="1"/>
        <c:lblAlgn val="ctr"/>
        <c:lblOffset val="100"/>
        <c:noMultiLvlLbl val="0"/>
      </c:catAx>
      <c:valAx>
        <c:axId val="64358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51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392-5802-4651-B198-CE6A09C2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AF6-D353-4E0F-9BEC-053ED4E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E0C-5058-493B-8778-FF79F1DB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AF9-626B-42EA-807F-80C5296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E1D-EEDA-462D-94F7-EDC177F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7D6-521E-4130-8751-FE2F460C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107-972D-4D56-A803-3DE0DD5B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EF4-01FD-4336-8DC4-EE97BA85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830-7817-4C91-81D5-EA33DCDA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42B-62E2-4C04-B7D6-ED465AF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974-A61B-4E96-854B-EA99ED6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BD6-E6EF-46A3-BAA1-9D27614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2E3B-67A9-4C8B-A853-6F2288558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