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6589"/>
        <c:axId val="43990198"/>
      </c:barChart>
      <c:catAx>
        <c:axId val="2676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0198"/>
        <c:crosses val="autoZero"/>
        <c:auto val="1"/>
        <c:lblAlgn val="ctr"/>
        <c:lblOffset val="100"/>
        <c:noMultiLvlLbl val="0"/>
      </c:catAx>
      <c:valAx>
        <c:axId val="43990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B08-C8E6-43EB-80C3-CC928E37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602-655F-4834-BFAA-8E257076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999-5A5B-4C88-B7CA-153F2211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F98-54A6-441B-BCE8-8DDCD9B7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4F6-C88C-4963-AE50-5C356B0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3F2-A57F-40D2-B637-5A87C2C0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BCC-21AF-4B71-8D79-CB660135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78E-A170-49F3-9E5A-A4AE8916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3F4-E30B-4909-9944-C7CBF3F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0DC-82B1-43E1-A938-711EEB6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16D-F0EE-486F-B413-1D184E7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F01-1237-40AA-8DB3-DC54B30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A0BF5-1DA9-48E4-997B-CC30B34E3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