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63798"/>
        <c:axId val="11883063"/>
      </c:barChart>
      <c:catAx>
        <c:axId val="23263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83063"/>
        <c:crosses val="autoZero"/>
        <c:auto val="1"/>
        <c:lblAlgn val="ctr"/>
        <c:lblOffset val="100"/>
        <c:noMultiLvlLbl val="0"/>
      </c:catAx>
      <c:valAx>
        <c:axId val="11883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63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09B-53B0-4D44-8D2B-8D48D27A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B6A-1216-4A99-A4FB-088F28DB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061-6555-4AED-A073-06AF2097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9CB-421E-4712-A680-6D5C83E9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688-0201-40E9-AABF-16D6CF24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8A0-D134-4468-9F6F-97D9B846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A89-F20D-4571-B676-D581D192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7E3-2537-4824-8F09-C5D364E0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3E6-3BB7-4A96-BB3C-95C4121B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D98-E3E1-4064-A6C2-0C00FF4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E5E-BC30-48D1-BED3-69F8998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D2C-26C3-41BC-AF48-35B4F50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A78D3-1500-4B97-81C8-6C0B8ECD0C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