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624710"/>
        <c:axId val="22274421"/>
      </c:barChart>
      <c:catAx>
        <c:axId val="476247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274421"/>
        <c:crosses val="autoZero"/>
        <c:auto val="1"/>
        <c:lblAlgn val="ctr"/>
        <c:lblOffset val="100"/>
        <c:noMultiLvlLbl val="0"/>
      </c:catAx>
      <c:valAx>
        <c:axId val="222744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6247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3547-0C75-4364-9B64-96B629DB0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CFA8-8594-4C78-8588-465FEC76F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AD99-DD89-4347-87AD-264929618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6C84-CE4A-41D7-B66E-8741A819A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0B98-E550-4EA7-B80B-65313C23D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356A-DB77-47D8-8813-50709CF08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9F63-87AC-482C-995F-B19E5654C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CA52-AB9F-418C-A30F-3194DB872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8753-F978-4FAC-8CCB-9C6BF5BA7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0926-4382-4854-A3A3-111E6BB6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D745-63B6-4184-BDE2-46298F92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113E-8CBA-49B5-9DF0-EB8EE168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B0ACF6-0448-4818-BBFA-61A109D090D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