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7778"/>
        <c:axId val="75762747"/>
      </c:barChart>
      <c:catAx>
        <c:axId val="8087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62747"/>
        <c:crosses val="autoZero"/>
        <c:auto val="1"/>
        <c:lblAlgn val="ctr"/>
        <c:lblOffset val="100"/>
        <c:noMultiLvlLbl val="0"/>
      </c:catAx>
      <c:valAx>
        <c:axId val="75762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7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5F4-083A-4387-8564-2B7C51F2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95C-BA8E-4E57-8BA4-C1E477C0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610-C411-4A3B-98B4-4BAD7858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A22-9AAE-4690-B239-D21750EF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9E0-3513-4491-9CB4-2C9D0282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816-11E4-4748-A0ED-54002124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C65-35FD-4D99-93E1-3594CD48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1A6-42D0-4D02-AAA4-666BCD5F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CA7-04A0-42CD-BD78-1C6157EE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4BC-D2B8-40FC-80CB-170FE54F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F16-0B9C-4502-88AD-60F65F90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7C2-CB7A-4BAB-9354-8F8C42E6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1D769-A77F-4699-BC40-CC58BDB4FD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