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28435"/>
        <c:axId val="72264167"/>
      </c:barChart>
      <c:catAx>
        <c:axId val="772284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64167"/>
        <c:crosses val="autoZero"/>
        <c:auto val="1"/>
        <c:lblAlgn val="ctr"/>
        <c:lblOffset val="100"/>
        <c:noMultiLvlLbl val="0"/>
      </c:catAx>
      <c:valAx>
        <c:axId val="72264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284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DCA-CA99-4071-BEAC-993BAB9F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C665-F24D-45E8-9922-3DCE1309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D51-F309-4E74-804B-F6511DB4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DA6-BB72-40CF-83E1-AB5481F4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94A-A962-4B54-9114-D16F8676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E2A-5403-491D-8FE7-18936843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BC9-467C-4079-8C0F-231D2282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58C-301C-43F7-BC4B-AF1FF041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DEC-C4F0-489B-B918-50021D79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32C-E96D-45B4-A164-11D24D04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9C8-627F-4881-9187-37849E9F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E8DD-3AD1-48D9-B531-F2ACF9BC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103BA-94EA-4B8F-AEE3-E836740707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