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F81A45-73DA-455E-9991-13DFA796E5C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A8F3BA-A7EF-4DA4-A0CA-518747FC7E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0FBFBC-1AFE-4BE7-952A-E0659C79D4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0C66CC-0ED7-4463-91BE-272464FAFA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6890EB-0414-4E09-BF99-D153859087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B26F86-6A27-4D61-B8C5-7163A04F33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287D45-316C-42BA-975E-14E61CBECB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1C0B7E-53AC-4853-8B98-C83A5F9839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0BA8F9-5DF7-404D-9DFF-99FF0E482D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33EB3F-9796-4504-9C24-8C26B3B591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A05541-1430-4AD3-805E-BAD1DD9D6D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0D01FE-E7B3-4AC6-BCCB-691C25EA6E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203F12-0391-4D4E-8386-A63D5795E12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11C776-0B68-4FEF-BCBE-6751D3384045}" type="datetime3">
              <a:rPr b="0" lang="en-US" sz="1400" spc="-1" strike="noStrike">
                <a:solidFill>
                  <a:srgbClr val="ffffff"/>
                </a:solidFill>
                <a:latin typeface="Times New Roman"/>
              </a:rPr>
              <a:t>July 30,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D1F7ED-1A08-425C-8257-429C41DB90C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A8364B33-0119-4DF7-B820-1E72F3140C0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9586CAE2-4DF9-4070-841D-68E0679AAAA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9028B88E-23B5-41B2-AC2B-15F49340EF0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4D11847D-0230-4C85-9434-D6B5B671978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1B9D301C-E25C-47D3-B223-A7B46B69FB7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BF2D1415-9ADC-4C00-8FDB-31449DB19D56}"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F560A8EA-95C7-4B4F-9EB8-83C2F4FD3014}"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D745596E-A683-44CD-820E-2B2A40C65E9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2651338A-7B77-4A49-8250-78A8827658F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73F65B2D-F8BD-4E5A-8F59-3BFB93B481E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2D35D6AD-9192-4342-9D7A-0D2351F32A2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3D4CED1F-8B3D-474B-94FF-753D800E23D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386CBB36-4BD2-440A-BBD3-BB5B5C22924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AD87922F-C18D-4E58-9447-6B41B63F811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