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5347"/>
        <c:axId val="36404797"/>
      </c:barChart>
      <c:catAx>
        <c:axId val="3285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04797"/>
        <c:crosses val="autoZero"/>
        <c:auto val="1"/>
        <c:lblAlgn val="ctr"/>
        <c:lblOffset val="100"/>
        <c:noMultiLvlLbl val="0"/>
      </c:catAx>
      <c:valAx>
        <c:axId val="36404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8C2-2ED8-4DC1-9DC3-5CE4A1E5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28A-F193-4C2D-93A4-0BCC6A7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6B3-6D40-43CA-A2E1-41E00E5E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A68-F1FE-4C3A-9456-EE70C65D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A4D-A140-4383-88B7-9A32708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52C-0D04-46BD-8E59-B2BE1BD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E87-A051-45B3-AFB9-4EB33D6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AD9-40D7-4C24-B1B0-0152F88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D58-27D2-4A40-B799-2F93EFA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CE5-0C33-4A61-A8DD-9D09B21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C9F-D471-4FE3-B302-452A81C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BE2-7F14-452C-827C-834564D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7D408-1715-426D-A868-F603C3516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