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12690"/>
        <c:axId val="64401375"/>
      </c:barChart>
      <c:catAx>
        <c:axId val="64512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01375"/>
        <c:crosses val="autoZero"/>
        <c:auto val="1"/>
        <c:lblAlgn val="ctr"/>
        <c:lblOffset val="100"/>
        <c:noMultiLvlLbl val="0"/>
      </c:catAx>
      <c:valAx>
        <c:axId val="64401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12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D45-34BE-4A8B-80A5-0A4C2F73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A1B-6A24-4BFE-9B22-90A89CD0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02E-9ED6-44F4-A3FE-A115E424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FB4-8A63-4791-AC6B-EC113AB2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211-6DEB-4100-ACFE-A6BF59DD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373-C2A3-438C-B82F-E186A8F9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33D-7730-4282-B7F0-7585C095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8062-4A36-48A0-9239-89B39731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7C0-1A13-4E7F-B2E5-7D255B39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6A3-9700-4892-AED0-2D5EDF95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3BB-A8D6-439B-B425-3DBBBC04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38E-7190-4174-B269-93A5C399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53D96-8240-4D97-92EE-29C8D0A82F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