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431456"/>
        <c:axId val="80629501"/>
      </c:barChart>
      <c:catAx>
        <c:axId val="904314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629501"/>
        <c:crosses val="autoZero"/>
        <c:auto val="1"/>
        <c:lblAlgn val="ctr"/>
        <c:lblOffset val="100"/>
        <c:noMultiLvlLbl val="0"/>
      </c:catAx>
      <c:valAx>
        <c:axId val="806295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4314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AF38-D85E-42EF-B1E3-5AF39BC06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1329-ECDE-4771-A4CF-D2A5803CF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CF59-4BF9-4A47-8B4B-8807712A3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D23E-FD16-4F20-A3C8-506483577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EA4F-5510-42A5-8BC6-323406722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E8C5-7E3F-4EA6-B143-9E271D41A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0438-1932-45DF-9666-03CD0F3EC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E461-047A-428F-A031-2DAA754BF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CE5D-8246-4FB9-923C-4288D18CD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CECB-081B-464F-BC14-A9D03F8E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0D7E-6E4A-4C2D-93D7-1E3BB656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CA92-5EA4-49ED-89EB-7EF752B3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F72FF7-A2A7-4329-BB19-DA9735B270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