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99594"/>
        <c:axId val="51448957"/>
      </c:barChart>
      <c:catAx>
        <c:axId val="82999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48957"/>
        <c:crosses val="autoZero"/>
        <c:auto val="1"/>
        <c:lblAlgn val="ctr"/>
        <c:lblOffset val="100"/>
        <c:noMultiLvlLbl val="0"/>
      </c:catAx>
      <c:valAx>
        <c:axId val="51448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99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6E8-E723-4F70-81A7-A728903D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2BA-6B7A-49D7-A25C-8105E465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8CD-96DE-4D96-AA41-13AFDBEC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028-C7E4-43A4-AEF2-FCEF13A3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157-1F17-4A6D-A981-857F0CFE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6D1-8767-4A2E-92F6-80912E79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9D2-7E60-4BCA-8B3F-87C693DC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AD1-5393-489A-A5DB-78F2B8F2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DE4-54BD-44B0-945E-15A0AF7A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F5A-C018-4349-969D-FA9285F2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831-E710-4B5F-B300-9609D41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A28-BB73-4806-A4CE-C521E9B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055D4-FD40-45B3-B8E3-E9F31458D6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