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72611"/>
        <c:axId val="79835547"/>
      </c:barChart>
      <c:catAx>
        <c:axId val="95772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35547"/>
        <c:crosses val="autoZero"/>
        <c:auto val="1"/>
        <c:lblAlgn val="ctr"/>
        <c:lblOffset val="100"/>
        <c:noMultiLvlLbl val="0"/>
      </c:catAx>
      <c:valAx>
        <c:axId val="79835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2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69A-2249-403C-A45D-0AD39A43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5E0-1E12-41EE-BF8A-6ABD33DA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9A0-3C78-48B1-B57E-9C7FEE38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60E-9218-4AB1-A498-68752378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2BB-FD6A-4295-BAAD-91D8DC88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0E6-96BD-4807-8C19-7606CC71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07C-EA9F-43B8-958F-BD98AC42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00D-2422-4855-97F6-48A5040A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46C-26F0-4D80-B7E8-F531B04C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15C-F4C5-4D9E-8654-E5BF58F4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645-A958-43A3-9F70-BAAB3DF7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6A26-3478-4741-B57A-FE2D50BA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BAD94-4E45-41B7-85DA-485D557079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