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371929"/>
        <c:axId val="45293277"/>
      </c:barChart>
      <c:catAx>
        <c:axId val="693719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93277"/>
        <c:crosses val="autoZero"/>
        <c:auto val="1"/>
        <c:lblAlgn val="ctr"/>
        <c:lblOffset val="100"/>
        <c:noMultiLvlLbl val="0"/>
      </c:catAx>
      <c:valAx>
        <c:axId val="452932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3719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6A9C-1851-4120-A77E-6741C65F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B940-1974-4633-B4A6-9B55BC63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A767-7059-415F-BA9C-2981578F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1D2A-3240-4F7E-BD25-9A5B13EF6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4ED0-A1D0-4896-8C0F-AB9A7AB7D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EABD-5C46-4967-8AF0-BEA803D5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1B97-0A5F-4A26-ABEA-AE48C255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6148-086F-40AB-A9B0-B43EE614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7965-1773-42DC-AD40-A1C6A2B0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2B7B-1AB8-4AFD-98B7-D3F9AC6D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91E6-24BC-4CCE-AA92-AE1A2D176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9F34-8271-43D6-B256-98624C34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56217-2DFD-4133-8A26-AEF3A9B77D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