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8887760"/>
        <c:axId val="74457100"/>
      </c:barChart>
      <c:catAx>
        <c:axId val="6888776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457100"/>
        <c:crosses val="autoZero"/>
        <c:auto val="1"/>
        <c:lblAlgn val="ctr"/>
        <c:lblOffset val="100"/>
        <c:noMultiLvlLbl val="0"/>
      </c:catAx>
      <c:valAx>
        <c:axId val="7445710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88776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9E30E-0893-4D67-AE78-7328F730D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EC2EB-711D-4058-8468-FD58210F7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00D81-DE4C-4F2F-8F4B-E7F88743B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984A8-E64C-4BA6-AF8B-B82814972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76114-F62F-4B2D-A0E2-C885E89E9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C9AD4-C677-4184-814A-D0D412586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BC33B-6A71-40BF-9859-3F09FF274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33E2B-5E78-453F-8D14-B2F38ED81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BA9CD-60D7-4C96-9449-06AC8C8C9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D1037-0046-44BD-8E51-0DBF2ABE2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B1ED6-9E34-4D38-AB4D-3F19B1581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96F86-D630-4F9B-ABAD-AE121E44C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7A59BC-2DDC-49C0-9BF4-17A9A21AFCE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