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296580"/>
        <c:axId val="8279987"/>
      </c:barChart>
      <c:catAx>
        <c:axId val="362965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79987"/>
        <c:crosses val="autoZero"/>
        <c:auto val="1"/>
        <c:lblAlgn val="ctr"/>
        <c:lblOffset val="100"/>
        <c:noMultiLvlLbl val="0"/>
      </c:catAx>
      <c:valAx>
        <c:axId val="82799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2965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66FD-B54D-4628-9357-3EAED891A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A028-E180-4B0A-BCF6-0CA8596E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FA5F-9C1A-4AC1-AE4D-8E5518551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6693-E149-49BC-B86E-A2D09F49F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E62D-106A-405B-9CFA-C23107FB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CFAC-5BE3-45C5-95A1-5E3D87A6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8122-F952-4C58-BF33-3A2A51BD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73C1-E009-43BA-80C9-27FA77E3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FFF9-B8B0-47EF-929A-084D71A9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0E77-447A-430F-B8E0-19EF6ECE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8736-9F97-45A3-BB5D-6AA7F856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C8CD-BAEA-459B-AECB-3D168576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D20AA-A174-40A9-9EA1-1D93D565A5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