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51356"/>
        <c:axId val="4867186"/>
      </c:barChart>
      <c:catAx>
        <c:axId val="54051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186"/>
        <c:crosses val="autoZero"/>
        <c:auto val="1"/>
        <c:lblAlgn val="ctr"/>
        <c:lblOffset val="100"/>
        <c:noMultiLvlLbl val="0"/>
      </c:catAx>
      <c:valAx>
        <c:axId val="4867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1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E79-AF83-4DCE-B66F-85CCFA9D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A2A-EA43-4DAF-9634-968A2672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716-7F6F-4745-81AE-C98F0010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A11-5548-4498-B786-6809B107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C69-5BEE-4CD5-AD74-39A83B2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67E-515A-418A-A6BD-9F17FDC2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EAB-2B3D-4406-BCC1-3337FE72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924-481E-4772-8FBE-F6A02049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8DD-9EB4-4968-A89C-5DECB2CC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AA1-3BD0-4B0C-8E5A-F444D291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FC7-41FD-4F57-AFA1-5ABBEF6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B8B-2BEA-405F-86D4-91EF44A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B754-3594-4ACB-A17A-DF0BA5FD0D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