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792465"/>
        <c:axId val="72482599"/>
      </c:barChart>
      <c:catAx>
        <c:axId val="187924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482599"/>
        <c:crosses val="autoZero"/>
        <c:auto val="1"/>
        <c:lblAlgn val="ctr"/>
        <c:lblOffset val="100"/>
        <c:noMultiLvlLbl val="0"/>
      </c:catAx>
      <c:valAx>
        <c:axId val="724825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7924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D9DB-68F9-4C00-BE9C-C02EDFC64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7AD6-B2E7-49EC-9BE0-0CB52491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CE5E-E9FE-4E02-AAD6-80EA1756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4413-D913-4828-9CA7-A1DD538B1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B239-E759-4CF0-B228-DCAF3BE0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C634-754F-4CBE-9EF6-7EB3E2CA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63DD-4B5A-4554-83B7-AE372AAA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E710-1AF1-4959-B3A6-09399F73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2030-0083-4F42-8D77-FDAEC486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2CD8-5870-4B81-87FB-FA8AA69B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12CE-B0A8-4D28-B3D5-1D68F6B1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4960-1B96-4F90-833D-166291B2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01F5E6-D9E2-4386-9999-8D9D7F8D66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