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34702"/>
        <c:axId val="38130926"/>
      </c:barChart>
      <c:catAx>
        <c:axId val="89534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30926"/>
        <c:crosses val="autoZero"/>
        <c:auto val="1"/>
        <c:lblAlgn val="ctr"/>
        <c:lblOffset val="100"/>
        <c:noMultiLvlLbl val="0"/>
      </c:catAx>
      <c:valAx>
        <c:axId val="38130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34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7E8-27D0-43E0-B3B6-3B55F413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D0D-F653-4AD6-A75E-9B485B42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F0B-4327-4D7B-B283-359E1ADD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0C2-A795-4FAA-9773-A6B88877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F8A-09F6-4352-9324-5D80EB88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52E-9380-4203-B69E-F657474F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59C-E92E-4AF5-B815-42E50860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60A-7884-4BEA-9215-EEA5C72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017-77EA-4E11-9DFF-9075A432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72A-E78F-45DF-953D-C7731BA1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A6E-DE68-4F94-A136-B77B3548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620-9B0E-45CF-816B-4627400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DBCE7-E6A6-4854-A43A-43F6A9FB37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