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56613"/>
        <c:axId val="72960258"/>
      </c:barChart>
      <c:catAx>
        <c:axId val="223566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60258"/>
        <c:crosses val="autoZero"/>
        <c:auto val="1"/>
        <c:lblAlgn val="ctr"/>
        <c:lblOffset val="100"/>
        <c:noMultiLvlLbl val="0"/>
      </c:catAx>
      <c:valAx>
        <c:axId val="729602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566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D35-9FA6-49A9-9645-E0401BCB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486-28F3-4783-8B26-6267C838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3AE-E1FB-4CEE-904D-42A5E47A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6005-BA27-415C-B724-F568D1D7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C47-D1F7-4DD8-AB4C-BCCA9CFC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DB3-3565-4B0A-9904-035CCF59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08D-C57A-474F-9EB6-1C851192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FDD-0589-4510-83C7-01E3A9CA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4FCA-D9C5-46F8-84DF-D6DE0FB6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F14-7C10-4E69-BFE6-64ABB95D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64B-6898-461E-89EB-E6A6390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471-E759-4D7A-AB43-694733A7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317B3-4964-49CB-BDF3-892978E4D9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