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62529"/>
        <c:axId val="83201486"/>
      </c:barChart>
      <c:catAx>
        <c:axId val="85362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01486"/>
        <c:crosses val="autoZero"/>
        <c:auto val="1"/>
        <c:lblAlgn val="ctr"/>
        <c:lblOffset val="100"/>
        <c:noMultiLvlLbl val="0"/>
      </c:catAx>
      <c:valAx>
        <c:axId val="83201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62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28E-45AB-4DEE-A526-6AF0C56F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FB2-1967-4B3C-8146-2391A7AC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FE3-16AE-4B6E-A0E4-DF79C665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458-9DD5-4F9F-A384-69C65FAF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F88-9DFF-4648-9138-DAEB4799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19B-BA3B-4F9D-B230-A5809945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309-7389-44F0-A7EF-95D28F02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D53-43B2-49DA-ACDC-A0B801B1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6FB-4F9B-4E76-B5CE-9367A31B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11B-0FF8-4A1C-BF85-1D81F374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3F7-8D46-4D2B-AF02-BC8F0368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57C-BCCB-454E-810B-FA286391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7046B-026B-44A2-83E8-302C8F38C1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