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077576"/>
        <c:axId val="42087784"/>
      </c:barChart>
      <c:catAx>
        <c:axId val="830775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87784"/>
        <c:crosses val="autoZero"/>
        <c:auto val="1"/>
        <c:lblAlgn val="ctr"/>
        <c:lblOffset val="100"/>
        <c:noMultiLvlLbl val="0"/>
      </c:catAx>
      <c:valAx>
        <c:axId val="420877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775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D5FD-337B-4945-8D45-FD261BA8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9384-CFC8-43EA-A9DB-2EB13D967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86A8-4E9E-4A53-80A0-57D4B778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4EB5-F1FF-4295-A694-68F2EB57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2D8D-8E65-41E9-93F5-23876F3C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49C3-76B3-4A3C-BC05-89351448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8A7-4C8C-4259-ABF6-F3C39E55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2A28-30FA-4D1A-909C-1222FF63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279E-A73E-48B4-9A71-0422D76F2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B638-9709-4446-945A-82DC5822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9FC0-0072-4887-A55D-150C04EE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01CD-87A6-4D90-8F8B-6EA477FD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623CB6-43AA-4355-9AF1-CCBB55E226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