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031754"/>
        <c:axId val="24353145"/>
      </c:barChart>
      <c:catAx>
        <c:axId val="570317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353145"/>
        <c:crosses val="autoZero"/>
        <c:auto val="1"/>
        <c:lblAlgn val="ctr"/>
        <c:lblOffset val="100"/>
        <c:noMultiLvlLbl val="0"/>
      </c:catAx>
      <c:valAx>
        <c:axId val="243531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0317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4D93-BFB2-4934-BA7F-A3FDBA8A0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DA8E-4951-41DF-A92F-C0F9E599D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E41F-D1C1-41A7-A2B6-705066017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0942-3C52-4BD1-8153-1608E73BC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E24C-3D72-4B00-89BE-922970F85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9514-D142-4194-9276-1C4CF5B35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68E1-354C-4173-9C55-002CC89F8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D6A4-37E5-43F4-ACAC-2C1360B47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CB94-ECA8-40D4-946F-8060DABDA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1DDC-884C-4EDF-A7AA-DE63D47C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63E8-0079-4366-B75F-D56F4034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B303-C075-42A3-93A7-8F7E787AA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9637E5-6C45-4ED4-81B7-C7480825F53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