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56876"/>
        <c:axId val="44089803"/>
      </c:barChart>
      <c:catAx>
        <c:axId val="43356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89803"/>
        <c:crosses val="autoZero"/>
        <c:auto val="1"/>
        <c:lblAlgn val="ctr"/>
        <c:lblOffset val="100"/>
        <c:noMultiLvlLbl val="0"/>
      </c:catAx>
      <c:valAx>
        <c:axId val="44089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56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F17-A975-43DA-8E70-0531AF6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6B5-FA3F-4175-8E2F-2855C11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983-BAD4-417F-9494-17D0172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FFC-D312-4A28-940A-CE6CB6A7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CAE-4BDF-4C68-B579-1AA559B7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5DC-913B-4695-AEC9-A92FA45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978-87E2-4B5E-B6F5-39815F3C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8EA-2227-401A-AA56-EA89BB2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A41-B5A1-450E-9ED9-69FE8A93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D6C-FA16-4B87-B719-063470F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AAF-365D-4512-91B3-5A161C3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FE4-4849-4047-9C33-BC00B26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4222E-766A-4A4D-A887-582282762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