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5791"/>
        <c:axId val="51297086"/>
      </c:barChart>
      <c:catAx>
        <c:axId val="75015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97086"/>
        <c:crosses val="autoZero"/>
        <c:auto val="1"/>
        <c:lblAlgn val="ctr"/>
        <c:lblOffset val="100"/>
        <c:noMultiLvlLbl val="0"/>
      </c:catAx>
      <c:valAx>
        <c:axId val="51297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5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607-8A9F-4242-BE46-2B17A94C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909-420B-4F25-8B8D-CCD98BF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EBF-63C0-4BE0-B88B-40C80497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6C5-6ADE-4838-B427-EB5D5BAF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C8B-301E-43E3-94E7-CD7641A8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7B6-9C48-42F5-8A5D-6972C97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21E-EAF8-47A9-88FC-FA214A3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BEF-D4DD-4BA2-AD40-165EC18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8CD-E1B1-4B76-9BA4-62BB37DD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AA9-60CB-4D47-8A03-5D65B72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69F-E79B-4670-BDE2-F6E4844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64C-D6F5-41F4-9BBD-57C0BBE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BE85-A708-41BC-B978-EB0B5AAF07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