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75178"/>
        <c:axId val="26239173"/>
      </c:barChart>
      <c:catAx>
        <c:axId val="53275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39173"/>
        <c:crosses val="autoZero"/>
        <c:auto val="1"/>
        <c:lblAlgn val="ctr"/>
        <c:lblOffset val="100"/>
        <c:noMultiLvlLbl val="0"/>
      </c:catAx>
      <c:valAx>
        <c:axId val="26239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75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D77-8AF4-4FAE-9E1E-C83FB15D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2A5-46F9-445C-9181-8A3CC5DE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CD9-072D-42FD-9BB8-C42A8E9F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1AF-32E7-4395-AFB6-7B0A46D2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C6E-FA4D-4317-AB09-789DAD7D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16C-7F2E-477D-99E2-DED5A1E7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108-264C-4651-89DA-167E0DCE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766-645A-46EC-9921-346CEB93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9D6-AC7F-4DA4-AB57-D50FA891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427-D8D7-48D4-B8F3-27D28B3A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F3B-3D52-465C-AE27-E1214028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250-6DC7-4C7B-9BFD-5FE7F643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E2762-E6DA-483D-8A38-058E3A9D5F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