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20227"/>
        <c:axId val="41980707"/>
      </c:barChart>
      <c:catAx>
        <c:axId val="70920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80707"/>
        <c:crosses val="autoZero"/>
        <c:auto val="1"/>
        <c:lblAlgn val="ctr"/>
        <c:lblOffset val="100"/>
        <c:noMultiLvlLbl val="0"/>
      </c:catAx>
      <c:valAx>
        <c:axId val="41980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20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B72-8922-4895-8E49-4CEB63EA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821-B80F-40BE-80CA-05FB7123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81C1-BCBA-4B46-B1E3-3932E208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47E-2F55-483F-AAB1-BB611FB1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013-1481-45F2-82AD-A55763A6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F73-4D47-4C45-9A81-A13F1F87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30B-BB75-4245-BCEC-69377194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19E0-CD6D-4A34-9501-381BC574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3C8-54D9-4648-A055-5FE6D3A1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798-C45A-45CC-8466-F3B99E9C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E893-A805-414C-87EB-21E4A586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BEBC-E053-46C0-AF1C-2BDF3DAF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09AE8-5CA3-46F3-9BE1-301DCB2EFE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