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82991"/>
        <c:axId val="72590866"/>
      </c:barChart>
      <c:catAx>
        <c:axId val="31282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90866"/>
        <c:crosses val="autoZero"/>
        <c:auto val="1"/>
        <c:lblAlgn val="ctr"/>
        <c:lblOffset val="100"/>
        <c:noMultiLvlLbl val="0"/>
      </c:catAx>
      <c:valAx>
        <c:axId val="72590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82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FC6-890E-423E-BA6B-1480336A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A27-4BC5-4ABE-A97A-B435DCD8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C44-66B4-445C-836E-CF519E5F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4FB-D40B-4F99-BBA1-0D8B7A27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B27-E967-4BD0-8A61-F5399B28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952-B405-4324-ABFA-45AF4B98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E89-F5A9-45CC-A995-B993183F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206-0DF3-4E65-A007-C578F8F0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4E9-F7F1-4E61-ABC1-115E2B22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EE5-A9C4-4FD4-B40D-709B7F87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F41-371C-4B79-B606-E6458B2C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095-C6B8-498E-999A-CAB79DED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661CD-4D71-439E-8194-8DFBEB37D8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