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08819"/>
        <c:axId val="31919102"/>
      </c:barChart>
      <c:catAx>
        <c:axId val="13408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19102"/>
        <c:crosses val="autoZero"/>
        <c:auto val="1"/>
        <c:lblAlgn val="ctr"/>
        <c:lblOffset val="100"/>
        <c:noMultiLvlLbl val="0"/>
      </c:catAx>
      <c:valAx>
        <c:axId val="31919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08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7F7-ECB2-4E15-BB7C-570DDDD0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EA9-EF97-4E95-A264-88EE02E4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E6F-D58C-42E7-88CD-FA98993A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B6B-D5A8-4408-9626-F7573ADC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147-C054-443C-9C7C-3146DDBD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A01-8496-499F-858D-5AD16BF0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A0C-C3AD-4130-8581-9D31C5AE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54F-9F4C-482C-9FA9-4F7A53A1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775-716C-4B06-9F65-F1495360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45B-6785-48E6-8721-E7955B1F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E51-3CBB-46D9-A456-F51739D8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70E-0A12-4F53-AE52-A293E453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CAB4B-9CF1-4CF8-B33A-0A5EC91616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