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36318"/>
        <c:axId val="46102951"/>
      </c:barChart>
      <c:catAx>
        <c:axId val="22536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02951"/>
        <c:crosses val="autoZero"/>
        <c:auto val="1"/>
        <c:lblAlgn val="ctr"/>
        <c:lblOffset val="100"/>
        <c:noMultiLvlLbl val="0"/>
      </c:catAx>
      <c:valAx>
        <c:axId val="46102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6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EEE-9030-417E-8356-110D2556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A60-2AAC-4D1A-BDD5-B783C8A1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C5E-0AD7-4F2F-AC90-E6C40F12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AAA-07A3-4655-8652-D37B35FF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E33-D6E2-4C1C-BF5E-C79B714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62F-1A91-4CE7-8855-EAD80D6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980-A443-4DC0-AD68-6299AC0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CE1-005E-4CEF-98CD-BCFF448D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FDC-BBDE-4C6B-BF9A-0C3441CA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020-2703-47BF-9CE6-D3B3A52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8BE-6B1D-492A-880B-0CD39A5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CCB-23DE-4D01-83B8-18D0BEF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17A81-0A94-46A4-A00A-45EB39D9A6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