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74236"/>
        <c:axId val="98314915"/>
      </c:barChart>
      <c:catAx>
        <c:axId val="93674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4915"/>
        <c:crosses val="autoZero"/>
        <c:auto val="1"/>
        <c:lblAlgn val="ctr"/>
        <c:lblOffset val="100"/>
        <c:noMultiLvlLbl val="0"/>
      </c:catAx>
      <c:valAx>
        <c:axId val="98314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74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9FB-AD6A-4E6E-9963-A2B26654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788-9EAE-4BE7-B863-B46AF7D2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0E6-6934-4F49-9036-5925201C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FAB-9C5E-499F-90F3-B459455B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038-AC02-4581-A648-FC4B9A3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BF2-3516-493D-87BE-28714C1C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59D-01D8-4B83-9303-2894A91B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38B-0425-4892-9658-8EFBAC9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582-A452-4F45-A9F7-565A37BE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900-DAC2-4904-91DC-D954E92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CDA-93AE-47D9-9E10-8EBCDCA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007-CF6C-4427-B90B-DDDC585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41CFA-E53C-46D2-B607-14C05342A3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