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91327"/>
        <c:axId val="63896804"/>
      </c:barChart>
      <c:catAx>
        <c:axId val="92891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96804"/>
        <c:crosses val="autoZero"/>
        <c:auto val="1"/>
        <c:lblAlgn val="ctr"/>
        <c:lblOffset val="100"/>
        <c:noMultiLvlLbl val="0"/>
      </c:catAx>
      <c:valAx>
        <c:axId val="63896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91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D68-C653-4FC5-89A2-7B2CE0A7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5CC-98FA-407F-A849-75B89BA4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B65-8727-4236-A8B7-1613978E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4D3-49A5-4B9D-9BFB-D90124C9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127-9B6B-416D-A22A-45536369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78F-BCCE-4C29-87A9-E75576C9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59D-3EFD-40C2-A1F8-6FCFA991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FF7-FD18-4984-A244-F1A3C12A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217-5604-4E8F-BE13-15648641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B55-951F-4818-BA6D-E4B52E57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28B-6171-43BE-BE57-0CC20041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8B0-D53F-412F-A828-447FD76C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42B78-9BB0-49A4-AF44-BE78E4FCA8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