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64983"/>
        <c:axId val="70660761"/>
      </c:barChart>
      <c:catAx>
        <c:axId val="13564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60761"/>
        <c:crosses val="autoZero"/>
        <c:auto val="1"/>
        <c:lblAlgn val="ctr"/>
        <c:lblOffset val="100"/>
        <c:noMultiLvlLbl val="0"/>
      </c:catAx>
      <c:valAx>
        <c:axId val="70660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4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B3B-133C-4DBF-9029-ACE9F514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1F8-EAE7-4D47-B790-C653E0F8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708-D444-4440-AF08-8D4E3323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DDA-201F-4D6E-9D97-4ECF5E02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EFA-CD7A-4506-91C9-88839015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911-AD78-4F75-BEAE-6F1DD3D7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EE5-B940-4BB9-9C36-942B835A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646-3206-4321-B50E-2EEFB304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8BD-F77F-4462-BCA0-D1E06B52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CE8-2EE2-43B9-8BF8-03427287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E96-A9CC-42AE-88CD-1A98BF8A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4DA-1ED4-4D88-BFE8-FAAC68E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44A29-7075-4D81-B84F-A3380507FB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