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77227"/>
        <c:axId val="96791429"/>
      </c:barChart>
      <c:catAx>
        <c:axId val="82577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91429"/>
        <c:crosses val="autoZero"/>
        <c:auto val="1"/>
        <c:lblAlgn val="ctr"/>
        <c:lblOffset val="100"/>
        <c:noMultiLvlLbl val="0"/>
      </c:catAx>
      <c:valAx>
        <c:axId val="96791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77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CC8E-F254-4C19-98AC-57289825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C24-C7AE-4A72-8D35-463BE609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043-690C-45B0-8148-7CE935BB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5DA-9EF9-449F-A505-B1DE2703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D8E-113F-449E-944D-D3A1A64F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160-070F-44CD-BAAD-29E1781C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7DF-CAD8-4321-858E-79B8ADA2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DB0-458E-4655-8D7E-A8B2EBA8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607-0D9B-48FA-AA1B-CB3F2DC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0E2-5280-4D1C-91FE-B27B3BA2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523-1E01-4EBA-AB40-7779EC26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925-02FA-49F7-B460-144251C1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8916-BAE6-4022-B64E-B68820B53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