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96167"/>
        <c:axId val="81679127"/>
      </c:barChart>
      <c:catAx>
        <c:axId val="634961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79127"/>
        <c:crosses val="autoZero"/>
        <c:auto val="1"/>
        <c:lblAlgn val="ctr"/>
        <c:lblOffset val="100"/>
        <c:noMultiLvlLbl val="0"/>
      </c:catAx>
      <c:valAx>
        <c:axId val="81679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961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D2DC-AF53-43A7-A8F4-A74F46D6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ECA-A4F9-4E8F-94F5-F0F7A33B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15B-99D7-49FB-831F-DBB3EA66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00A-BE19-4A9F-9637-439506C8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AC6-512D-4E3A-9FBF-DEE3734C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E3B8-CB8E-4686-B022-C7CD6A54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CF6-E416-44CF-AD8E-89AC082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616-2073-400F-A395-623C5090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E08-46A9-49B7-A230-924B701C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907-336C-40D2-BEA3-F97CC5C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BD7-C8A6-4061-B34E-1451570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563-613E-49EB-B112-4222697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2F1DB-288C-4C01-B925-92A514F1E9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