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01885"/>
        <c:axId val="11774417"/>
      </c:barChart>
      <c:catAx>
        <c:axId val="89101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74417"/>
        <c:crosses val="autoZero"/>
        <c:auto val="1"/>
        <c:lblAlgn val="ctr"/>
        <c:lblOffset val="100"/>
        <c:noMultiLvlLbl val="0"/>
      </c:catAx>
      <c:valAx>
        <c:axId val="11774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01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52D-5681-42E7-BD43-9DE0E43D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0D0-A876-4975-88AE-49B6198C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CED-CC76-4703-8529-F1E6C625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866-333D-4263-AB42-9638F93C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337-7C97-4130-87D4-A3A7D41D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6C4-77C5-4421-816E-4305AE90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AC1-F11C-4058-AB5F-081F86C1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DF0-D014-4F32-980C-130412CD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A0A-C63B-4357-825E-10102B4E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85D-D85B-487D-B51F-14951EA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D00-5233-4985-B56D-B18AF71F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3B5-1F88-45F1-B64E-A6986D57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701CF-BC74-43E1-B27B-EA58FCE7CF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