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453400"/>
        <c:axId val="77017559"/>
      </c:barChart>
      <c:catAx>
        <c:axId val="344534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017559"/>
        <c:crosses val="autoZero"/>
        <c:auto val="1"/>
        <c:lblAlgn val="ctr"/>
        <c:lblOffset val="100"/>
        <c:noMultiLvlLbl val="0"/>
      </c:catAx>
      <c:valAx>
        <c:axId val="770175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4534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552A-ABD7-430E-ADFE-D13B0CB83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6B3E-CD49-4630-B6FB-D9D33D667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DF94-D260-4448-9378-9DBED0513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826D-272E-43E3-AD79-313497CEE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3ADE-CC93-4628-8163-82AFDEDB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81B7-79A8-4D61-A69B-02FD05AC7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F4D4-43A0-4365-921C-0D997879E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737C-102D-4833-9C25-2B691D5D3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25D7-BCED-4AA9-AFAC-B5EDAE92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B8C1-11CD-44A6-A3AF-9FD39CBA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2691-E689-4996-B536-19240951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34A1-B73E-44BA-AA54-2A5D836A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B7143D-0A99-4769-BE44-D876E996EC5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