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801273"/>
        <c:axId val="73777666"/>
      </c:barChart>
      <c:catAx>
        <c:axId val="15801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77666"/>
        <c:crosses val="autoZero"/>
        <c:auto val="1"/>
        <c:lblAlgn val="ctr"/>
        <c:lblOffset val="100"/>
        <c:noMultiLvlLbl val="0"/>
      </c:catAx>
      <c:valAx>
        <c:axId val="73777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01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711-77E4-48BE-9E5B-4C493567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0DC-55F1-40E0-B44B-D02495C0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969-5F9E-45ED-9BB2-A4B306CD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8CA-9060-441B-BE76-FD3C07D2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C01-AB08-4631-BCD2-5C9D3E74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4D7B-C12C-4A32-822F-63A6B1C8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49F-80CB-4D0B-BFE4-A8E66C13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4A9-FC10-4F67-A9B5-C431B22D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172-E533-440C-BB2D-B885A92B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59E-5C23-4647-BEEE-40EAC762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5AC-7F71-4D18-B9C5-075D73E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2A4-FA51-45E5-8DF1-BE98A25F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810AC-B1CA-4253-A1C7-C7BE92B00E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