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24603"/>
        <c:axId val="69576180"/>
      </c:barChart>
      <c:catAx>
        <c:axId val="99224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76180"/>
        <c:crosses val="autoZero"/>
        <c:auto val="1"/>
        <c:lblAlgn val="ctr"/>
        <c:lblOffset val="100"/>
        <c:noMultiLvlLbl val="0"/>
      </c:catAx>
      <c:valAx>
        <c:axId val="69576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24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330-0691-4665-BD20-45A9EB8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DDE-33CE-447D-9357-65EBEAE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E93-CB0E-45DE-8466-8ECD916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FFB-5608-444F-AD15-305954E1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98D-53D9-4EAF-82C4-CA108BCE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F3-DCCC-4B90-B64A-4058BC48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1D2-2F43-436F-89C2-C3B29F26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6E7-A697-4668-9DFF-F9F63173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A55-3463-4E4F-88E6-0BA6D47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554-4FD0-4DCA-A3C6-C578A8D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AE6-0633-43E0-84F8-7906AA36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083-1D51-48E3-B99E-A42A5C4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8B9BC-22AD-44F8-90EA-4DCA978D17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