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1079"/>
        <c:axId val="62094753"/>
      </c:barChart>
      <c:catAx>
        <c:axId val="5381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94753"/>
        <c:crosses val="autoZero"/>
        <c:auto val="1"/>
        <c:lblAlgn val="ctr"/>
        <c:lblOffset val="100"/>
        <c:noMultiLvlLbl val="0"/>
      </c:catAx>
      <c:valAx>
        <c:axId val="62094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1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EB3-F829-4471-866B-0AC38FE6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D8F-952B-4690-9289-162070FF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9B9-7C96-4049-B75A-3287E4DC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BDF-8955-4664-9D2C-2FB39977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5F2-5A9E-42DA-B800-B5FBB30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0C3-38E4-4AE2-BE63-76031949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276-1031-454B-8840-36C2D181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341-8406-4B46-9603-92231E96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021-566D-409C-A349-FD2AF1B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83F-4E38-4D51-B319-06118E0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D46-1044-43C9-BF3E-72DA914C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229-8E41-430C-B8A3-98C72F91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B8B10-C775-47F9-AA40-06ED65B65C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