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55570"/>
        <c:axId val="57274504"/>
      </c:barChart>
      <c:catAx>
        <c:axId val="15555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74504"/>
        <c:crosses val="autoZero"/>
        <c:auto val="1"/>
        <c:lblAlgn val="ctr"/>
        <c:lblOffset val="100"/>
        <c:noMultiLvlLbl val="0"/>
      </c:catAx>
      <c:valAx>
        <c:axId val="57274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55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B5B-16A0-4602-BBB0-EAAA9AF7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6E1-6FE6-4B83-9B18-BC5976BD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3DE-841A-49C5-A9B1-65B0CA61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E62-EAA7-4374-A4C6-8ABD5EB9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FCD-E775-4BEB-B980-BCA7CF8A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955-3BCA-4D4E-A76A-B48C984A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4EA-9273-4F2C-B042-69FED1CA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CAC-6431-470C-A7D8-B672F544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147-1992-4368-BB84-7A682C80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125-DE4D-4CF0-A7CA-7705A938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3C6-792E-4D1D-8A25-D78F8EB7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047-8D6F-417D-A564-5C991D2C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C74AF-4FDF-46FD-B0A2-0D4DBCC59F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