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342102"/>
        <c:axId val="19235583"/>
      </c:barChart>
      <c:catAx>
        <c:axId val="473421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35583"/>
        <c:crosses val="autoZero"/>
        <c:auto val="1"/>
        <c:lblAlgn val="ctr"/>
        <c:lblOffset val="100"/>
        <c:noMultiLvlLbl val="0"/>
      </c:catAx>
      <c:valAx>
        <c:axId val="192355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421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87B6-AB70-4EC3-9A9F-CAFA1C8E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3CDF-8C11-40AE-A498-48CD7A6A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17FC-15C4-41BC-90FA-0CB17264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7BDC-2281-4653-BC05-372C64F3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0068-0965-4696-8DD6-CF65A5CA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ED89-9B41-482D-B15C-4D76AE50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6D90-B9C6-4858-9660-7A15A14D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BC0D-792D-4ABE-9CEB-58F20E0D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54C1-D0EF-4C9F-ABF2-5EE2B3BF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3EA6-3513-4AC0-AB49-D25D7BD5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4C70-F9BC-43A9-9010-E228F148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F200-A8B8-4AA4-9DC8-615C692D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B69D6-8037-49D9-9DB3-A77F527935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