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52815"/>
        <c:axId val="95250532"/>
      </c:barChart>
      <c:catAx>
        <c:axId val="97852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50532"/>
        <c:crosses val="autoZero"/>
        <c:auto val="1"/>
        <c:lblAlgn val="ctr"/>
        <c:lblOffset val="100"/>
        <c:noMultiLvlLbl val="0"/>
      </c:catAx>
      <c:valAx>
        <c:axId val="95250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52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0E4-5513-4CB9-B361-679B3EA7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1F1-EF4E-4472-B0D5-373D9F62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4D1-87B5-4687-842D-F6CA36E2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21E-9A22-4F66-BE9F-CC120B75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879-DA82-464A-A033-6B4B47AF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DB7-5723-4E68-B03C-C83915EE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D0D-28A5-4AAE-A63C-5395B6F6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916-E629-4353-8692-AD68E03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D58-48E3-455C-BD5E-CC6F1951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761-3EB2-4E22-B6E9-FBB5AB7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12B-DD80-4AB8-9590-3352C54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BD6-61BC-4C1D-B76F-64F87C1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53CEE-0E9A-491A-A899-E57C8EB58D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