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02316"/>
        <c:axId val="46682866"/>
      </c:barChart>
      <c:catAx>
        <c:axId val="30802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82866"/>
        <c:crosses val="autoZero"/>
        <c:auto val="1"/>
        <c:lblAlgn val="ctr"/>
        <c:lblOffset val="100"/>
        <c:noMultiLvlLbl val="0"/>
      </c:catAx>
      <c:valAx>
        <c:axId val="46682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2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69C-6832-426F-AAA6-1FFB99EA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95C-0BCE-47CA-9A50-7C9BCA3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42E-18E7-4041-BF09-08D4F715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4D9-E42C-4F5B-B0AD-9EFA261C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D12-8F62-43F6-A723-48DA7CD6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BD5-E87A-479B-A509-4DD4F5BA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CCE-19AE-47D2-B705-F8A25740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5BA-B7CD-41CE-8440-F36B0544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CD7-8EA3-4FA3-8456-582241F0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29F-0D0A-434C-A133-5AB36CA1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83B-7451-4CA3-A849-2F089EB9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871-E89C-47D9-91D7-FF26CCD7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AEAD3-4CA4-4646-A383-E6BB73F2BC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