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756008"/>
        <c:axId val="46416605"/>
      </c:barChart>
      <c:catAx>
        <c:axId val="917560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416605"/>
        <c:crosses val="autoZero"/>
        <c:auto val="1"/>
        <c:lblAlgn val="ctr"/>
        <c:lblOffset val="100"/>
        <c:noMultiLvlLbl val="0"/>
      </c:catAx>
      <c:valAx>
        <c:axId val="464166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7560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5FF9-814D-4D6D-AC63-D775E7885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373A-830F-4649-9300-EA29C2DD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A833-6802-4207-AD67-F3B49B8B3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9751-9B39-4854-9C2E-B0ADFBA19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D3F3-DB02-409E-A7D1-D089D224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9C55-0E88-4F0E-8994-2377878D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53CA-6705-430B-91FF-EF8A5FE3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E62C-FE45-4120-87A4-58507932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0840-DA6F-420F-B8C0-38EEFF40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5C46-7637-4E03-AC87-CC889FB5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A947-F7F1-48B6-A7A9-61529192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8A7A-A08D-4A5A-B99C-7146B160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E79F9-41E0-4F0E-A9E4-7CFC2557FF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